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B008B-1283-45BE-BD9E-281A45A1EA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833B-19B0-40C3-900B-EFA6835C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2EBFE-49E7-4107-A613-B153DA29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99FD-C6F0-4A5B-90D8-E4112DE506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7E7B-80D9-4E28-86C6-B93C81C8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25A04-874C-4254-B7ED-15BCC5BC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9B2A3-CD3D-480E-A688-68221535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C7886-4700-4BFE-A401-AB66C590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0021-3B09-4478-82B0-DFF66EAC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6341E-7B68-45E5-ABF4-A07A52BB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3B0F-281E-4E0C-AFBD-D05C0D7C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89935-7F3E-46CD-9AB1-8501C08A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3DB9-AAC7-4C99-AAA3-4679241A6D1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外科护理学的定义及范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外科护理学与外科学的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正确的方法学习外科护理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内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及外科护理学的范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和外科护理学的发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学习外科护理学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同一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13:28Z</dcterms:modified>
  <cp:revision>88</cp:revision>
  <dc:subject/>
  <dc:title>内科护理学</dc:title>
</cp:coreProperties>
</file>